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979-4A6E-4A13-938A-B0E91190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3C2F-0628-40EA-A9EB-CF14DFBC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1F92-D87E-43E0-95D2-F480ECE3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76AA-C26F-4F04-8F42-7CDD8DE2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4461-11BD-4CE7-8288-C7B82F03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C2F2-74FB-4224-89D0-26CF5BA7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C02A-264A-4D8A-B661-C761A39D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CF09-60FC-4A0C-8AD1-542CD504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E53E-ED90-419C-BCE3-D64DE14F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8CE6-8983-47C5-86A4-5ED873D6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2FF7-DBD7-4D45-9019-242EF262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BBA4-5D4F-476E-BFD2-F47D6AA0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7A3F-4203-4BB2-BB0E-08568CA154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en-US" sz="9600" spc="-1" strike="noStrike">
                <a:solidFill>
                  <a:srgbClr val="e3ebf1"/>
                </a:solidFill>
                <a:latin typeface="Arial Rounded MT Bold"/>
              </a:rPr>
              <a:t>The Game of</a:t>
            </a:r>
            <a:br>
              <a:rPr sz="9600"/>
            </a:br>
            <a:r>
              <a:rPr b="0" lang="en-US" sz="9600" spc="-1" strike="noStrike">
                <a:solidFill>
                  <a:srgbClr val="e3ebf1"/>
                </a:solidFill>
                <a:latin typeface="Arial Rounded MT Bold"/>
              </a:rPr>
              <a:t>MATTER</a:t>
            </a:r>
            <a:endParaRPr b="0" lang="en-US" sz="9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66ff33"/>
                </a:solidFill>
                <a:latin typeface="Arial Rounded MT Bold"/>
              </a:rPr>
              <a:t>CORRECT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is the forth state of matt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Plasma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At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The substance made of 2 or more elements is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Molecule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Comp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is the amount of space that matter takes up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Mass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Volu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0066"/>
                </a:solidFill>
                <a:latin typeface="Arial Rounded MT Bold"/>
              </a:rPr>
              <a:t>The physical change of matter is when a substance that makes up matter changes into another substan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ue</a:t>
            </a:r>
            <a:r>
              <a:rPr b="0" lang="en-US" sz="40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0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0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Fal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is the amount of matter in an objec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Mass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	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	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Volu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Arial Rounded MT Bold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66ff33"/>
                </a:solidFill>
                <a:latin typeface="Arial Rounded MT Bold"/>
              </a:rPr>
              <a:t>CORRECT!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66"/>
                </a:solidFill>
                <a:latin typeface="Arial Rounded MT Bold"/>
              </a:rPr>
              <a:t>WAY TO GO! 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Rounded MT Bold"/>
              </a:rPr>
              <a:t>You have now mastered the game of matter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3818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is the smallest unit of matt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Atom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     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Subst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are two or more atoms linked togeth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Compound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	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	</a:t>
            </a:r>
            <a:r>
              <a:rPr b="0" lang="en-US" sz="4400" spc="-1" strike="noStrike">
                <a:solidFill>
                  <a:srgbClr val="66ccff"/>
                </a:solidFill>
                <a:latin typeface="Arial Rounded MT Bold"/>
              </a:rPr>
              <a:t>Molec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Arial Rounded MT Bold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66ff33"/>
                </a:solidFill>
                <a:latin typeface="Arial Rounded MT Bold"/>
              </a:rPr>
              <a:t>CORRECT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What is the matter of the same characteristics or properties call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Substance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</a:rPr>
              <a:t>	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 Rounded MT Bold"/>
                <a:hlinkClick r:id="rId2" action="ppaction://hlinksldjump"/>
              </a:rPr>
              <a:t>Comp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66ccff"/>
                </a:solidFill>
                <a:uFillTx/>
                <a:latin typeface="Arial Rounded MT Bold"/>
                <a:hlinkClick r:id="rId1" action="ppaction://hlinksldjump"/>
              </a:rPr>
              <a:t>TRY AGAIN!!!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23:52:54Z</dcterms:created>
  <dc:creator>Krystina Adams</dc:creator>
  <dc:description/>
  <dc:language>en-US</dc:language>
  <cp:lastModifiedBy>Krystina Adams</cp:lastModifiedBy>
  <dcterms:modified xsi:type="dcterms:W3CDTF">2009-04-01T00:49:54Z</dcterms:modified>
  <cp:revision>4</cp:revision>
  <dc:subject/>
  <dc:title>MATTER</dc:title>
</cp:coreProperties>
</file>