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A0C-C73C-47C7-BDF8-A243F232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E71-FE09-44DE-BC7C-52032FD0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65B-40A0-4E42-9560-D6C02DAB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210-3E51-474A-BEBA-38750162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231-342A-47EE-ACEF-3EECA374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24A-48C3-45BA-BF83-3C0A9904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52B-810D-4BB0-BACC-A4978BDE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644-1BF0-43DA-AAE0-CA2F77F0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19D-835B-4579-807B-6CE1398F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8E1-5414-4DEF-930C-EC59A525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1C9-12A3-4FCC-9085-9F515FB9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428-401B-4657-BF22-D26F245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1CC3-9E4C-4518-953E-09EDBAAF71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e3ebf1"/>
                </a:solidFill>
                <a:latin typeface="Arial Rounded MT Bold"/>
              </a:rPr>
              <a:t>The Game of</a:t>
            </a:r>
            <a:br>
              <a:rPr sz="9600"/>
            </a:br>
            <a:r>
              <a:rPr b="0" lang="en-US" sz="9600" spc="-1" strike="noStrike">
                <a:solidFill>
                  <a:srgbClr val="e3ebf1"/>
                </a:solidFill>
                <a:latin typeface="Arial Rounded MT Bold"/>
              </a:rPr>
              <a:t>MATTER</a:t>
            </a:r>
            <a:endParaRPr b="0" lang="en-US" sz="9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forth state of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Plasma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At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The substance made of 2 or more elements i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Molecule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Com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amount of space that matter takes u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Mass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Arial Rounded MT Bold"/>
              </a:rPr>
              <a:t>The physical change of matter is when a substance that makes up matter changes into another substan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ue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Fal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amount of matter in an objec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Mass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Rounded MT Bold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66"/>
                </a:solidFill>
                <a:latin typeface="Arial Rounded MT Bold"/>
              </a:rPr>
              <a:t>WAY TO GO! 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Rounded MT Bold"/>
              </a:rPr>
              <a:t>You have now mastered the game of matter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smallest unit of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Atom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    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Subs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are two or more atoms linked togeth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Compound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Molec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Rounded MT Bold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matter of the same characteristics or properties call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Substance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Com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23:52:54Z</dcterms:created>
  <dc:creator>Krystina Adams</dc:creator>
  <dc:description/>
  <dc:language>en-US</dc:language>
  <cp:lastModifiedBy>Krystina Adams</cp:lastModifiedBy>
  <dcterms:modified xsi:type="dcterms:W3CDTF">2009-04-01T00:49:54Z</dcterms:modified>
  <cp:revision>4</cp:revision>
  <dc:subject/>
  <dc:title>MATTER</dc:title>
</cp:coreProperties>
</file>