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695-BE92-4317-BF2B-D2BA5A65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4F0-E3A6-49AA-9C37-A4AE5174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FE5-737B-4259-AD9E-6326F8B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44C-E280-4A86-9AA8-50757D39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1E0-76DE-4FC4-8F86-8BA835B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64A-AE78-4285-8285-E1B018D5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245-FB68-40FD-86B7-633673C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AE2-A737-4A86-B8E8-00F38350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EF6-B8E7-42A5-966E-830EA526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809-71D0-4CCD-9C43-AC7E1D3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FB0-5DCA-4EC1-9277-9F1309E5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3E9-30B6-4FC3-BE6B-13C01BC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C111-2572-4AF5-B2E0-8FD31624D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The Game of</a:t>
            </a: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MATTER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forth state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Plasma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The substance made of 2 or more element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olecul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space that matter takes u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ass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 Rounded MT Bold"/>
              </a:rPr>
              <a:t>The physical change of matter is when a substance that makes up matter changes into another sub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ue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matter in an objec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ass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Arial Rounded MT Bold"/>
              </a:rPr>
              <a:t>WAY TO GO!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Rounded MT Bold"/>
              </a:rPr>
              <a:t>You have now mastered the game of matte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smallest unit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Atom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    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Sub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are two or more atoms linked togeth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Compound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matter of the same characteristics or properties call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Substanc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52:54Z</dcterms:created>
  <dc:creator>Krystina Adams</dc:creator>
  <dc:description/>
  <dc:language>en-US</dc:language>
  <cp:lastModifiedBy>Krystina Adams</cp:lastModifiedBy>
  <dcterms:modified xsi:type="dcterms:W3CDTF">2009-04-01T00:49:54Z</dcterms:modified>
  <cp:revision>4</cp:revision>
  <dc:subject/>
  <dc:title>MATTER</dc:title>
</cp:coreProperties>
</file>