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A7B7-890C-4F1F-9757-C75A04A6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7067-72C8-47B4-80FA-FD3A0075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F15F-7C88-4235-A396-A7B48C20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0A3D-866E-4137-8C3E-DECD21B7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B38-E556-49D4-BFD5-6ED15EB0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3E5A-6FCC-4E9F-822C-E38253F7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76EB-AFE0-43B3-B3E0-AFAAAE9C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2796-C1B8-4798-B414-122055DE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EA5E-E5C0-4B9C-B0B9-863EC92D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A34A-FB26-457E-9299-931BD823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2E03-B083-49A2-BCCC-53C2DEEB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12DB-0644-4F23-BBE4-159833B4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36F3-DB8D-46EC-A88E-C60F839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5B58-6A67-4555-935A-EEBAB4E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F620-D502-42A5-839D-DD4FE06E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13D0-030B-43D4-A7CC-EDB7CCD7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21FD-842E-4F9E-92D6-EC0D63D2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577A-8978-4D9A-9D02-DCA5F391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FFF4-8474-4172-A5A9-EA3B4BB6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C0A0-585A-4811-9CA2-7725A544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CD68-6FD2-44F4-B5EF-42EB60FD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142A-9DFF-4BA5-90BF-6316DC4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5EB6-AA41-4A51-9D12-75BF8CEB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94DA-8AB2-4F22-A186-8E083067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498-11F5-4392-8BBB-E55CCB59C2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36C2-4BD2-4345-AC5D-C0ED899C59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4" descr=""/>
          <p:cNvPicPr/>
          <p:nvPr/>
        </p:nvPicPr>
        <p:blipFill>
          <a:blip r:embed="rId1"/>
          <a:stretch/>
        </p:blipFill>
        <p:spPr>
          <a:xfrm>
            <a:off x="-590400" y="291960"/>
            <a:ext cx="10118520" cy="32259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5"/>
          <p:cNvSpPr/>
          <p:nvPr/>
        </p:nvSpPr>
        <p:spPr>
          <a:xfrm>
            <a:off x="51814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. Ad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erving siz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mount that serves one pers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apple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ui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6208"/>
              <a:gd name="adj2" fmla="val 33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has fat in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838080" y="1828800"/>
            <a:ext cx="73915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After rubbing a bit of chocolate on 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piece of brown paper, the paper developed a ring and became  transparent.  What does that mean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 helps strengt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scl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you find out the ser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ze of a foo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 lab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carrot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getab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6805"/>
              <a:gd name="adj2" fmla="val 2264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nd when do I know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stance contains protein w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ing protein test strip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turn blue in the solu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s give us l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energ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0472"/>
              <a:gd name="adj2" fmla="val 2869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would be the best sna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a soccer gam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) Soda and chip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) Water and a candy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A granola bar and 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A granola bar and wa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838080" y="1143000"/>
            <a:ext cx="754380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black bean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ts/protei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152280" y="19044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od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2438280" y="190440"/>
            <a:ext cx="18288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4495680" y="112680"/>
            <a:ext cx="20574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ents &amp; Min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6705720" y="204840"/>
            <a:ext cx="24382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d C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0287"/>
              <a:gd name="adj2" fmla="val 1247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sie used the same toothpick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x water in all of her tests f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ch.  Are her results go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be valid?  Why or why no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he has contaminated the foo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5856"/>
              <a:gd name="adj2" fmla="val 190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vitamin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ound in vegetab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for your bod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helps eyesight especially at n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4106"/>
              <a:gd name="adj2" fmla="val 2391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nding is the comm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ing for sugar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) –g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) –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–i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) -o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food group is rice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contains star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1371600" y="1295280"/>
            <a:ext cx="655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put a drop of iodine on a piece of food and it turned blackish/purple.  What does that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tamin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1114560" y="2133720"/>
            <a:ext cx="646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vitamin is found in fru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ch as orang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8601"/>
              <a:gd name="adj2" fmla="val 2710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do you find 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ut what is in food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 lab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is yogurt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i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36152"/>
              <a:gd name="adj2" fmla="val 140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ter putting a glucose strip in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quid, the strip did not chan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that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e is no glucose in the liqui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7152"/>
              <a:gd name="adj2" fmla="val 2100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c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1056600" y="1981080"/>
            <a:ext cx="646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 is found in dai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ts that helps strengt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es and teeth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11-10T02:35:26Z</dcterms:modified>
  <cp:revision>9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