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8F6B-A6CD-4400-9BF1-B01A0130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3D5E-0606-4889-B7FD-1A7093B2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131D-FCBC-462E-AC86-477A3A90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90BB-498A-4D30-B37C-3339CBD6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7751-95B6-4DE5-B076-C3DFF46F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AFEE-725F-4C4C-B022-45FF774F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9684-9C42-4D5F-9A67-33F8D488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1DF6-6B82-4770-9BF2-654971E4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AC1B-318B-4779-8945-FB2F8208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827B-4AD9-4D46-A5C1-2354D945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BD28-AD18-45A3-8733-1B66945B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C95B-A686-4A1B-B102-B1466B0D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AD74-0E14-4D72-80C6-710B67C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9570-2994-431B-9009-0072A28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2E66-30FE-4DF8-8430-68390802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905D-0B0B-4F01-86F2-DE69787C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90BE-EA10-4127-B6A0-F3F5D541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A6EA-DF48-4F59-AC42-D51B2640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895F-2AC2-4B90-8D61-34F312AF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AB44-A64A-4B3F-A1E4-9C29B8B5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403D-8369-40B4-8968-6E0C7288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E83B-B4C3-4EBD-ACD5-84547EF2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54B2-2DB0-4151-9668-B75BF0E9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F9ED-A9D7-49D2-B4F6-26A1EA0A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C2F0-B23D-49AC-9E94-F2DAE17D14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1A1F-D96C-4B64-830E-7AE379DC26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4" descr=""/>
          <p:cNvPicPr/>
          <p:nvPr/>
        </p:nvPicPr>
        <p:blipFill>
          <a:blip r:embed="rId1"/>
          <a:stretch/>
        </p:blipFill>
        <p:spPr>
          <a:xfrm>
            <a:off x="-590400" y="291960"/>
            <a:ext cx="10118520" cy="32259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5"/>
          <p:cNvSpPr/>
          <p:nvPr/>
        </p:nvSpPr>
        <p:spPr>
          <a:xfrm>
            <a:off x="51814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. Ad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erving siz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mount that serves one pers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apple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ui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6208"/>
              <a:gd name="adj2" fmla="val 33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has fat in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838080" y="1828800"/>
            <a:ext cx="73915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After rubbing a bit of chocolate on 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piece of brown paper, the paper developed a ring and became  transparent.  What does that mean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 helps strengt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scl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you find out the ser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ze of a foo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 lab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carrot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getab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6805"/>
              <a:gd name="adj2" fmla="val 2264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nd when do I know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stance contains protein w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ing protein test strip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turn blue in the solu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s give us l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energ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0472"/>
              <a:gd name="adj2" fmla="val 2869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would be the best sna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a soccer gam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) Soda and chip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) Water and a candy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A granola bar and 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A granola bar and wa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838080" y="1143000"/>
            <a:ext cx="754380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are black beans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ts/protei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152280" y="19044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od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2438280" y="190440"/>
            <a:ext cx="18288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4495680" y="112680"/>
            <a:ext cx="20574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ents &amp; Min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6705720" y="204840"/>
            <a:ext cx="24382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d C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0287"/>
              <a:gd name="adj2" fmla="val 1247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sie used the same toothpicks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x water in all of her tests f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ch.  Are her results go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be valid?  Why or why no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he has contaminated the foo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5856"/>
              <a:gd name="adj2" fmla="val 190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vitamin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ound in vegetab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for your bod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helps eyesight especially at n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4106"/>
              <a:gd name="adj2" fmla="val 2391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nding is the comm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ing for sugar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) –g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) –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–i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) -o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w 1, Co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food group is rice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contains star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1371600" y="1295280"/>
            <a:ext cx="655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put a drop of iodine on a piece of food and it turned blackish/purple.  What does that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tamin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1114560" y="2133720"/>
            <a:ext cx="646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vitamin is found in fru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ch as orang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8601"/>
              <a:gd name="adj2" fmla="val 2710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do you find 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ut what is in food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 lab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food group is yogurt i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i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36152"/>
              <a:gd name="adj2" fmla="val 140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ter putting a glucose strip in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quid, the strip did not chan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that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e is no glucose in the liqui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7152"/>
              <a:gd name="adj2" fmla="val 2100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c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1056600" y="1981080"/>
            <a:ext cx="646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nutrient is found in dai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ts that helps strengt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es and teeth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rystina Adams</cp:lastModifiedBy>
  <cp:lastPrinted>2001-01-31T16:21:13Z</cp:lastPrinted>
  <dcterms:modified xsi:type="dcterms:W3CDTF">2009-11-10T02:35:26Z</dcterms:modified>
  <cp:revision>9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