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DA67-8C37-45E9-B9C1-59D390A2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2427-0087-4697-9005-F9919B14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64D6-3872-40E7-92AD-D764528F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F360-3A9E-43A3-AF13-992BC864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6008-1258-4CAF-A2CC-086369B8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68E1-2105-4401-B1B0-A6D9FEBE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4824-EA2A-4EB9-BB29-BAE4F5B8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56FC-6358-47B3-86F0-5419684E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8904-E4CB-45FD-ADCA-269309A5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F0BE-E52A-431B-AF87-C6A181D4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EABD-08E4-4FCB-8586-4083AE8E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FC77-F086-4799-BB38-216F28B8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A1E9-84D2-44A6-B2F0-832CC2C3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83FE-9844-441F-A10D-DA7A3CDE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7685-A682-4D71-A519-7CF37620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10C4-D186-470B-9BC2-F8417561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4046-6AB1-439D-A123-4070B32C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51EF-23A7-4D7E-AE27-719AAF97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E039-C755-4902-818B-DB0DCB83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587E-6C41-438B-8BF6-798AC80F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08CC-3F36-4828-A1DA-E28291F1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585D-232C-4A70-AF46-D7D4DFB3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6B1F-8CEF-4736-A888-F5080A6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7067-087A-4E97-AA54-E44D9F33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6F6F-1EFA-4EF8-872D-437E66A1FA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3206-38AD-478A-84B5-712BC876FE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Rectangle 4" descr=""/>
          <p:cNvPicPr/>
          <p:nvPr/>
        </p:nvPicPr>
        <p:blipFill>
          <a:blip r:embed="rId1"/>
          <a:stretch/>
        </p:blipFill>
        <p:spPr>
          <a:xfrm>
            <a:off x="-590400" y="291960"/>
            <a:ext cx="10118520" cy="32259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5"/>
          <p:cNvSpPr/>
          <p:nvPr/>
        </p:nvSpPr>
        <p:spPr>
          <a:xfrm>
            <a:off x="5181480" y="4648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s. Ad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serving siz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mount that serves one pers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are apples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ui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6208"/>
              <a:gd name="adj2" fmla="val 33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has fat in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838080" y="1828800"/>
            <a:ext cx="73915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After rubbing a bit of chocolate on 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piece of brown paper, the paper developed a ring and became  transparent.  What does that mean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nutrient helps strengt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scl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you find out the serv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ze of a foo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trition lab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are carrots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getab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6805"/>
              <a:gd name="adj2" fmla="val 2264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nd when do I know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bstance contains protein w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ing protein test strip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y turn blue in the solu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nutrients give us l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energ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40472"/>
              <a:gd name="adj2" fmla="val 2869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would be the best sna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fore a soccer gam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) Soda and chip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) Water and a candy b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A granola bar and wa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A granola bar and wa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838080" y="1143000"/>
            <a:ext cx="754380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are black beans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ts/protei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23"/>
          <p:cNvSpPr/>
          <p:nvPr/>
        </p:nvSpPr>
        <p:spPr>
          <a:xfrm>
            <a:off x="152280" y="19044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od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2438280" y="190440"/>
            <a:ext cx="18288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4495680" y="112680"/>
            <a:ext cx="20574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ents &amp; Mine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26"/>
          <p:cNvSpPr/>
          <p:nvPr/>
        </p:nvSpPr>
        <p:spPr>
          <a:xfrm>
            <a:off x="6705720" y="204840"/>
            <a:ext cx="24382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d C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0287"/>
              <a:gd name="adj2" fmla="val 1247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sie used the same toothpicks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x water in all of her tests f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ch.  Are her results go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be valid?  Why or why no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she has contaminated the foo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5856"/>
              <a:gd name="adj2" fmla="val 1903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es vitamin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ound in vegetab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 for your bod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helps eyesight especially at n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4106"/>
              <a:gd name="adj2" fmla="val 2391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ending is the comm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ing for sugar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) –g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) –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–i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) -o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w 1, Co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food group is rice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contains star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1371600" y="1295280"/>
            <a:ext cx="655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 put a drop of iodine on a piece of food and it turned blackish/purple.  What does that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tamin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1114560" y="2133720"/>
            <a:ext cx="646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vitamin is found in fru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ch as orang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8601"/>
              <a:gd name="adj2" fmla="val 2710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do you find infor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bout what is in food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trition lab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is yogurt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i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36152"/>
              <a:gd name="adj2" fmla="val 140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fter putting a glucose strip in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quid, the strip did not chan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es that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re is no glucose in the liqui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7152"/>
              <a:gd name="adj2" fmla="val 21004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lc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1056600" y="1981080"/>
            <a:ext cx="646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nutrient is found in dai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ts that helps strengt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es and teeth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rystina Adams</cp:lastModifiedBy>
  <cp:lastPrinted>2001-01-31T16:21:13Z</cp:lastPrinted>
  <dcterms:modified xsi:type="dcterms:W3CDTF">2009-11-10T02:35:26Z</dcterms:modified>
  <cp:revision>9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