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79A9-1078-4A9B-B39C-A2E34D99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A765-8E3F-4360-A9D9-80A008B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1624-36A0-44AB-B732-F412844A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8A9C-8F09-4595-AD4F-392F29A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4044-DD60-4F3C-B474-730DF243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A6C-9CE6-4FF6-8540-117218C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9A0-CA7F-4160-B24D-27CFF950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1F74-F57B-44E7-A531-7B85A329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245E-5B14-43D2-B011-A004A01D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904-9D31-450E-BDDC-A181D6FA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190F-D225-4D37-992F-566FDAE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84D5-77C4-4749-8A99-C95DEA1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128-D9AB-4A2B-A28A-6F262F3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B79-73EA-484C-BDDA-5B488BB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102-BF4C-4200-A424-BBB5C57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0395-2AE4-4EF2-9E28-22A3A62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54D-3F54-4B6F-B295-EA003474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36FE-549F-4B15-9DE7-9FC6C1C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2841-E0DA-4017-BA5B-39358EA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1E33-D8A4-4941-8D25-2DFDA65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2D9F-0C1B-4C25-9CE0-DF48799C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3B51-4A57-4F80-9DC3-3AEC3EE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F605-5129-45B1-95C9-7B762C55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7834-610F-47A2-B13E-23C0CC5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E9E-F0B0-475C-9156-8CD836A72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942-EBD6-4997-9762-2789C09F38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4" descr=""/>
          <p:cNvPicPr/>
          <p:nvPr/>
        </p:nvPicPr>
        <p:blipFill>
          <a:blip r:embed="rId1"/>
          <a:stretch/>
        </p:blipFill>
        <p:spPr>
          <a:xfrm>
            <a:off x="-590400" y="291960"/>
            <a:ext cx="10118520" cy="3225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5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Ad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erving siz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mount that serves one pers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apple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6208"/>
              <a:gd name="adj2" fmla="val 33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as fat 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838080" y="1828800"/>
            <a:ext cx="739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After rubbing a bit of chocolate on 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iece of brown paper, the paper developed a ring and became  transparent.  What does that mean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sc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you find out the ser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ze of a foo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carrot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getab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6805"/>
              <a:gd name="adj2" fmla="val 2264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nd when do I know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 contains protein w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ing protein test strip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turn blue in the solu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s give us l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energ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0472"/>
              <a:gd name="adj2" fmla="val 2869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would be the best sn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 soccer gam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Soda and chi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Water and a candy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838080" y="1143000"/>
            <a:ext cx="75438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black bean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ts/prot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52280" y="1904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2438280" y="190440"/>
            <a:ext cx="18288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4495680" y="112680"/>
            <a:ext cx="20574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ents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6705720" y="204840"/>
            <a:ext cx="24382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d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0287"/>
              <a:gd name="adj2" fmla="val 1247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sie used the same toothpick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x water in all of her tests f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ch.  Are her results go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 valid?  Why or why no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he has contaminated the foo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5856"/>
              <a:gd name="adj2" fmla="val 190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vitam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ound in vegetab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for your bod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elps eyesight especially at n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4106"/>
              <a:gd name="adj2" fmla="val 2391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nding is the comm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ing for suga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–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–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–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) -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food group is rice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contains star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1371600" y="12952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a drop of iodine on a piece of food and it turned blackish/purple.  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tamin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1114560" y="2133720"/>
            <a:ext cx="64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vitamin is found in fru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ch as oran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8601"/>
              <a:gd name="adj2" fmla="val 2710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do you find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ut what is in food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is yogurt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i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36152"/>
              <a:gd name="adj2" fmla="val 140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ter putting a glucose strip 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, the strip did not chan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is no glucose in the liqu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7152"/>
              <a:gd name="adj2" fmla="val 2100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056600" y="1981080"/>
            <a:ext cx="646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is found in dai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ts tha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es and tee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11-10T02:35:26Z</dcterms:modified>
  <cp:revision>9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