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CAE-F3E2-476B-BB04-6493FEF9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044-4FE7-4BA0-829C-666E58D1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DF83-3A1D-4FCE-90CC-61AAA1FD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F424-E4A0-4380-81F7-D2E2158A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CB1-59D3-47D5-9544-CD8F7AEB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B2D-5207-4D1A-AD92-D6781E1B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002-AE5D-4C5D-B71B-374B3C66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F87F-46C2-445F-BC6C-6ED764EF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1B62-1873-4B82-94E5-4036912F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F8E-CCF9-4A70-9892-8ED461E1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3BD-C859-4250-B17D-0C759B19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CD2-EF54-45DB-B630-6E500753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A21D-00F8-4D75-9899-DA461FBBE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is the longest bone in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d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emu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large bone surrou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brai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sku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lumbar vertebra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48000" y="1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82720" y="2514600"/>
            <a:ext cx="55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found in the lowe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rtion of your sp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located on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tside of your low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di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located in the back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your lower leg, near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lf musc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ibu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known to b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“collar” bo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lavic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one connects your legs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spin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lv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connects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m bone to your clavicle bo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apu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located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low the kn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is commonly know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s the “shin” bo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b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top por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your spine and i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ted behind your sku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ervicle vertebra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0"/>
            <a:ext cx="16002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d/ Ne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r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0"/>
            <a:ext cx="22100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0"/>
            <a:ext cx="22860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where the rib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nect in the fro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your che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rn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se bones are f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your wri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rpa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se are the five lo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nes found in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o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atarsa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s is your jaw b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mandi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914400"/>
            <a:ext cx="7543800" cy="4038480"/>
          </a:xfrm>
          <a:prstGeom prst="wedgeRectCallout">
            <a:avLst>
              <a:gd name="adj1" fmla="val -17634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se bones create a cag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at protects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art and lung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b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is the largest bone of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upp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humer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protects your kn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i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tel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0833"/>
              <a:gd name="adj2" fmla="val 1701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a horseshoe shaped bo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ted in your ne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hy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81560" y="2209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middle portion of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spi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oracic vertebra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ul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9600" y="2286000"/>
            <a:ext cx="57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one is located on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ide of your low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Krystina Adams</cp:lastModifiedBy>
  <cp:lastPrinted>2001-01-31T16:21:13Z</cp:lastPrinted>
  <dcterms:modified xsi:type="dcterms:W3CDTF">2009-03-31T22:12:18Z</dcterms:modified>
  <cp:revision>100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