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3EE-825B-4C1E-937D-CEB37CFC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C4E-8C04-4841-938A-E0B4DF91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260-3A3A-438E-A979-BC09A06C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7C9C-2F43-4E4B-9026-BDA71A16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B35-9A85-4CA7-94CE-3267DDB1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FA7-BCA7-4955-9E7A-375208B7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D25-CBD0-49B0-8F20-52C782E5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BEF-85E8-4AEC-A635-593A85BA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F0F-4EE2-48E3-9FA5-DF7E6D48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DB4-C09E-41BE-8FAB-0F6D10CE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4A4A-3FB7-4D69-8355-509A47E1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702-2162-4A71-B374-B6784E68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51DB-7941-4DB6-BE15-02CC571EBD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slide7.xml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slide19.xml"/><Relationship Id="rId27" Type="http://schemas.openxmlformats.org/officeDocument/2006/relationships/slide" Target=""/><Relationship Id="rId28" Type="http://schemas.openxmlformats.org/officeDocument/2006/relationships/slide" Target="slide20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is the longest bone in you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od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emu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large bone surroun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brai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sku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lumbar vertebra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48000" y="1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82720" y="2514600"/>
            <a:ext cx="55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found in the lowe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rtion of your sp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located on th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utside of your lower ar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di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located in the back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your lower leg, near yo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lf musc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ibu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known to b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“collar” bo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lavic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one connects your legs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r spin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lv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connects yo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m bone to your clavicle bo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apu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located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low the kn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is commonly know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s the “shin” bo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b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top por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your spine and i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ted behind your sku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ervicle vertebra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0"/>
            <a:ext cx="160020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d/ Ne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r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0"/>
            <a:ext cx="22100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0"/>
            <a:ext cx="22860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>
            <a:hlinkClick r:id="rId25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>
            <a:hlinkClick r:id="rId27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>
            <a:hlinkClick r:id="rId29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>
            <a:hlinkClick r:id="rId30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is where the rib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nect in the fro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your che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rn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se bones are f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your wri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rpa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se are the five lo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ones found in yo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o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tatarsa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s is your jaw b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mandi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914400"/>
            <a:ext cx="7543800" cy="4038480"/>
          </a:xfrm>
          <a:prstGeom prst="wedgeRectCallout">
            <a:avLst>
              <a:gd name="adj1" fmla="val -17634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se bones create a cag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at protects you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art and lung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b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is the largest bone of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upper ar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humer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bone protects your kn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i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tel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0833"/>
              <a:gd name="adj2" fmla="val 1701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a horseshoe shaped bo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ted in your ne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hyo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81560" y="2209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middle portion of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r spi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oracic vertebra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ul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79600" y="2286000"/>
            <a:ext cx="577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one is located on th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side of your lower ar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Krystina Adams</cp:lastModifiedBy>
  <cp:lastPrinted>2001-01-31T16:21:13Z</cp:lastPrinted>
  <dcterms:modified xsi:type="dcterms:W3CDTF">2009-03-31T22:12:18Z</dcterms:modified>
  <cp:revision>100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