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BC1-E580-47ED-8C2C-889CDF20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D53-913B-400B-9AAC-0F39E16E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812-80AD-4205-A989-9D68574B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D79-3968-4398-BBFB-527258B0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6F6-46DF-46F4-A086-AA2AC98C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37D-58F5-48F9-831E-1B0F41EA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F0D-D04C-41D6-B9B2-65446B42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060-B4CC-42FC-88A3-10FD37C9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428-F2BD-46B6-AF04-64A47442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E38-1BFE-4123-B697-47C5A94D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848-E144-455F-99B5-C1270676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46B-7DBF-4E3C-951A-6576446D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5FBC-6A91-450C-A9F9-51BFF9D17C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longest bone in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d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emu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large bone surrou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brai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sku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lumbar vertebra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82720" y="251460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found in the low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rtion of your sp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on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side of your low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di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in the back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your lower leg, near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lf musc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ibu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known to 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“collar”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lavic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one connects your legs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pin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lv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connects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m bone to your clavicle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apu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low the 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is commonly know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the “shin”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b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top por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your spine and 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ed behind your sku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ervicle vertebra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/ Ne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r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0"/>
            <a:ext cx="22100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0"/>
            <a:ext cx="22860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where the rib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nect in the fro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your che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rn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bones are f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your wri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rp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are the five lo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nes found in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atarsa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is your jaw b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and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bones create a cag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protects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art and lung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b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largest bone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upp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umer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protects your 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i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tel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horseshoe shaped b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ed in your ne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y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iddle portion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pi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oracic vertebra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ul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9600" y="2286000"/>
            <a:ext cx="57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one is located on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ide of your low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rystina Adams</cp:lastModifiedBy>
  <cp:lastPrinted>2001-01-31T16:21:13Z</cp:lastPrinted>
  <dcterms:modified xsi:type="dcterms:W3CDTF">2009-03-31T22:12:18Z</dcterms:modified>
  <cp:revision>10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