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C6A-CBB7-4891-B96E-9C8D397B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2CFC-A77A-43AA-B91D-A95E7A82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B22-0EA4-484B-8D8D-CE0E9044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206-55FD-4C1B-B2D1-7B142C85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C81-0EC4-4548-B25D-ED00C329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7545-6F79-478A-A866-DD9E5A77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57E-815F-49A5-9637-080F3921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31A-E39D-43AA-8713-6D6378CB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617-FA24-4312-B62A-D2CED8CD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69F-EA6F-44A4-BB6B-F3D2973E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C92-37EC-4C33-A602-BDDE8133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440-C179-4DEA-B660-6281A275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9F8E-8871-4007-9043-0A1D3219C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is the longest bone in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d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emu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large bone surrou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brai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sku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lumbar vertebra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82720" y="2514600"/>
            <a:ext cx="55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found in the lowe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rtion of your sp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on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tside of your low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di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in the back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your lower leg, near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lf musc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ibu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known to b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“collar”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lavic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one connects your legs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spin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lv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connects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m bone to your clavicle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apu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low the kn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is commonly know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the “shin”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b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top por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your spine and i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ted behind your sku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ervicle vertebra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0"/>
            <a:ext cx="16002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/ Ne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r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0"/>
            <a:ext cx="22100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0"/>
            <a:ext cx="22860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where the rib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nect in the fro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your che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rn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bones are f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your wri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rpa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are the five lo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nes found in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atarsa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is your jaw b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andi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bones create a cag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protects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art and lung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b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is the largest bone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upp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humer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protects your kn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i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tel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 horseshoe shaped bo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ted in your ne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hy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iddle portion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spi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oracic vertebra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ul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9600" y="2286000"/>
            <a:ext cx="57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one is located on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ide of your low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Krystina Adams</cp:lastModifiedBy>
  <cp:lastPrinted>2001-01-31T16:21:13Z</cp:lastPrinted>
  <dcterms:modified xsi:type="dcterms:W3CDTF">2009-03-31T22:12:18Z</dcterms:modified>
  <cp:revision>10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