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E66-CF3A-417C-883F-672A6962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40C-6F43-46A5-B0AE-7FFA0D7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F49-B8FA-4B79-B596-5E7EA736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937-AE7A-4982-8427-995D0A1F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1524-5805-4EB2-B81F-8B8EEDF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DFA-F2D5-47C7-BFD8-715E6FA0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8AD8-ACB0-43E2-990A-127A321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B5E-F28E-4F1A-87DB-BF280A23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93E-F403-4DD5-B1B4-044087E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B6B-A60E-43E1-B02B-C4D5853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E55F-849E-4C9F-B268-3D5C9BB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D68-1010-421A-945E-A2303B5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D1C4-3417-43F4-A202-5BC0A69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4DF6-0678-4361-A7E7-E9B2CD4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4662-D6C7-4E08-BAF5-99D13C4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D92-3829-4306-920C-4049EF07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602-3991-4D16-8B40-04692C34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C8B-807B-46F6-9F7D-72F3E89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2C8-49A1-4680-A356-4AFB850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046-413A-4DFC-982D-153DB0E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3D6-A4D9-4A6B-AA88-DDCA72D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57F-E241-425C-8171-7FCB1059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C01-9D7C-4289-A67C-6A4C21E2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41B-655E-45BF-B0BC-1DBCDC0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8CB-80FF-47F4-9C73-B04F4E518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60A-D90B-4746-B00F-6D5279861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Tahoma"/>
              </a:rPr>
              <a:t>Guess the Artifact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cythe Cradl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450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to cut g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cradle in heavy grain an experienced man could cut about two acres a day, and another man could rake and bind it into sheaves, so that two men with the cradle could do the work of six or seven men with sick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Old Wooden Chaff Cutter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36920"/>
            <a:ext cx="40384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ut straw chaff, hay, and oats into small pieces before being mixed together with other forage and fed to horses and catt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OFFEE GRINDER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ep Sh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by farmers to shear their shee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 process by where the woolen fleece of a sheep is cut o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who removes the sheep's wool 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ear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ly each adult sheep is shorn once each ye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41148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2296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tato and Beet Shove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3160"/>
            <a:ext cx="403848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farmers to dig up the potatoes and beets that grew i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orn Flai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ail is two pieces of wood joined by a leather thong or short metal chain and used for threshing (separating the grain from the ear or the seed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piece of wood is held and the other then swung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9:51Z</dcterms:created>
  <dc:creator>Krystina Adams</dc:creator>
  <dc:description/>
  <dc:language>en-US</dc:language>
  <cp:lastModifiedBy>Krystina Adams</cp:lastModifiedBy>
  <dcterms:modified xsi:type="dcterms:W3CDTF">2009-11-28T17:06:21Z</dcterms:modified>
  <cp:revision>4</cp:revision>
  <dc:subject/>
  <dc:title>Slide 1</dc:title>
</cp:coreProperties>
</file>