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F15-DD63-4BF6-A889-AE1316AD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70E-3B47-4E48-B7D1-BB1D497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3F5-1B8E-41AE-8DED-E4B68A7C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BDD-C0AE-4E5E-82B4-9EED5BED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3F80-FCFE-49FE-95BF-7340B79D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8C07-E961-4A94-BCB9-43523F4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BC50-91B0-41FF-9A3D-5EB86D5E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961D-0C2E-4309-A1E1-10DE787B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5264-482E-4DBD-9EB2-29600937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925E-73A7-40B4-B96E-32A1108E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8F06-DB0D-4C77-BA7A-2D22E34C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70E-C466-4A0E-ABEB-F8606FD8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6261-2949-4F80-AA35-666AB805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F3F8-0A37-4779-B866-5A7723F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A603-0B5D-4E26-AFE9-4DD4A83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C8C6-037C-4EF0-B4ED-F03C6A9A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B50-8FD4-42BB-A221-31DAE02C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407-8958-4D25-B88E-10E04021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7F4-B123-4522-BAA5-D70AA08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20A-74CE-4DCF-B64E-144B8D05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666-E572-4E45-85FE-74587961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BA1-4EC5-4315-A128-63BB1E5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AA7-B4B4-4DEE-A966-04334E6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68F-9D94-4210-B24C-0E08887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6DB8-F90E-4C51-9B86-400A151516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67CD-6B7A-4D7A-9328-5A6DCB05E8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Tahoma"/>
              </a:rPr>
              <a:t>Guess the Artifact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2296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Scythe Cradle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276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54500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to cut g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the cradle in heavy grain an experienced man could cut about two acres a day, and another man could rake and bind it into sheaves, so that two men with the cradle could do the work of six or seven men with sick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Old Wooden Chaff Cutter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536920"/>
            <a:ext cx="403848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ut straw chaff, hay, and oats into small pieces before being mixed together with other forage and fed to horses and catt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OFFEE GRINDER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763120" cy="62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ep Sh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by farmers to shear their shee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 process by where the woolen fleece of a sheep is cut off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rson who removes the sheep's wool is called 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hear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ly each adult sheep is shorn once each ye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411480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2296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Potato and Beet Shovel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03160"/>
            <a:ext cx="403848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farmers to dig up the potatoes and beets that grew i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6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orn Flail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lail is two pieces of wood joined by a leather thong or short metal chain and used for threshing (separating the grain from the ear or the seed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piece of wood is held and the other then swung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4:19:51Z</dcterms:created>
  <dc:creator>Krystina Adams</dc:creator>
  <dc:description/>
  <dc:language>en-US</dc:language>
  <cp:lastModifiedBy>Krystina Adams</cp:lastModifiedBy>
  <dcterms:modified xsi:type="dcterms:W3CDTF">2009-11-28T17:06:21Z</dcterms:modified>
  <cp:revision>4</cp:revision>
  <dc:subject/>
  <dc:title>Slide 1</dc:title>
</cp:coreProperties>
</file>