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CF4A-1215-4B23-B341-FAFD8A13F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5C86-5237-4998-BD7A-86D747EE1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3B0F-570C-4F45-BEB3-8EDC704BA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5115-5433-46A3-9BED-6576736DA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C2C43-A76E-42A7-BF70-3894BCDBD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AEABA-EDB7-4927-BC73-3018393C8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9AAB4-8D25-48F6-87F2-781A76C7D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93EB5-7462-48D6-BAB7-5FF32C9F6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F95BF-3CAD-4DD9-984E-03B999C2D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D73BB-7F20-4E83-9E71-9B1B422C3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05E81-116A-468D-AFD1-2BDBFA22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F151-EF3A-47F8-8154-228B6F687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53397-7A24-4147-A2D8-6D24F245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3FE7D-CEB9-4A3B-8C9A-6B048675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ED5A7-C750-4CBD-95FC-4C5DBC6B9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88E18-8CC3-4BFF-AFDB-EFFB593F8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FED97-627B-4974-A252-07D77AE17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2E41-B354-477B-BCE0-BA933BD7A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8D7F-71AD-4E28-9D6B-CFF835503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A007-78C2-4071-9327-A2CD232EB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D79F-E724-4658-A683-9F4941CAB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0921-859E-477B-9BDC-826495CC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73A1-8310-44FC-93F2-5F2D93B0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CE95-FEFB-4036-B26C-9601F2A2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6FBF2-B432-45B0-9006-FCBBCF896FB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D768A-D113-450B-8E26-1B552F667DA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660033"/>
                </a:solidFill>
                <a:latin typeface="Tahoma"/>
              </a:rPr>
              <a:t>Guess the Artifact!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33520" y="685800"/>
            <a:ext cx="82296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Scythe Cradle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57200" y="1066680"/>
            <a:ext cx="8229600" cy="32767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4545000"/>
            <a:ext cx="8229600" cy="15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sed to cut gra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ith the cradle in heavy grain an experienced man could cut about two acres a day, and another man could rake and bind it into sheaves, so that two men with the cradle could do the work of six or seven men with sickle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33520" y="838080"/>
            <a:ext cx="8229600" cy="49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Old Wooden Chaff Cutter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536920"/>
            <a:ext cx="4038480" cy="35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d to cut straw chaff, hay, and oats into small pieces before being mixed together with other forage and fed to horses and cattl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038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85800" y="685800"/>
            <a:ext cx="7772400" cy="54100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8229600" cy="58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ffffff"/>
                </a:solidFill>
                <a:latin typeface="Tahoma"/>
              </a:rPr>
              <a:t>COFFEE GRINDER</a:t>
            </a: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52280" y="304920"/>
            <a:ext cx="8763120" cy="62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762120"/>
            <a:ext cx="403848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eep Shea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d by farmers to shear their sheep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is the  process by where the woolen fleece of a sheep is cut off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person who removes the sheep's wool is called a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sheare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ypically each adult sheep is shorn once each yea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648320" y="533520"/>
            <a:ext cx="4114800" cy="58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80880" y="685800"/>
            <a:ext cx="8229600" cy="53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Potato and Beet Shovel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603160"/>
            <a:ext cx="4038480" cy="34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d by farmers to dig up the potatoes and beets that grew in the groun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72000" y="1600200"/>
            <a:ext cx="4267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80880" y="762120"/>
            <a:ext cx="82296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orn Flail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flail is two pieces of wood joined by a leather thong or short metal chain and used for threshing (separating the grain from the ear or the seeds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e piece of wood is held and the other then swung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038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04:19:51Z</dcterms:created>
  <dc:creator>Krystina Adams</dc:creator>
  <dc:description/>
  <dc:language>en-US</dc:language>
  <cp:lastModifiedBy>Krystina Adams</cp:lastModifiedBy>
  <dcterms:modified xsi:type="dcterms:W3CDTF">2009-11-28T17:06:21Z</dcterms:modified>
  <cp:revision>4</cp:revision>
  <dc:subject/>
  <dc:title>Slide 1</dc:title>
</cp:coreProperties>
</file>