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F67-96D5-4054-BC74-6D130BDC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709-616B-48C9-BBD3-33ADCF7D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249-4424-44F6-9919-A6E44CEB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EE9-2E90-4B12-9D6B-3D6BB379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47C-BC13-40DA-BD1F-E1733E9C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D139-1C73-4BE7-A09A-251BBD0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765-06D1-4FDE-BA37-8E1CA4FF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F0C5-E153-415E-9A8D-0106D49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C671-27BF-4437-A042-09C1C659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6C4-05FF-4278-91B0-9D3948DD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9F0-E65C-48E1-9AC0-9118A4B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9F2-6C4E-49AA-B43C-8EDD41F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45C6-5B1C-4CF5-87DA-AD13C91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DDE6-69BB-47DE-887F-26390BB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F62-F202-4129-97CD-1B5B411D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4ED1-8409-4AFA-979C-7F26E52D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023E-D41B-471B-B671-D12432D6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81D-21B0-4C06-B6BD-19903F99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4B4-1812-40DB-AC42-1CB1B52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BFC-5A8B-4418-984B-1FC76F3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F6C-2BAA-45A2-AF12-F568F40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99D-C0B0-43DC-A44B-98E9D97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7F9-3BA6-47D3-BC13-A50D8207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7CB-DE96-418F-9E61-C1EC222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4E0-3763-42F1-992F-EABB08BD3E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65E-9F29-4134-B024-9A95EDA069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Tahoma"/>
              </a:rPr>
              <a:t>Guess the Artifact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Scythe Cradl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4500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to cut g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 cradle in heavy grain an experienced man could cut about two acres a day, and another man could rake and bind it into sheaves, so that two men with the cradle could do the work of six or seven men with sick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Old Wooden Chaff Cutter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536920"/>
            <a:ext cx="40384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ut straw chaff, hay, and oats into small pieces before being mixed together with other forage and fed to horses and catt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OFFEE GRINDER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763120" cy="62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ep Sh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by farmers to shear their shee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 process by where the woolen fleece of a sheep is cut of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who removes the sheep's wool 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hear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ly each adult sheep is shorn once each ye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41148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2296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tato and Beet Shove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03160"/>
            <a:ext cx="403848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farmers to dig up the potatoes and beets that grew i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orn Flai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lail is two pieces of wood joined by a leather thong or short metal chain and used for threshing (separating the grain from the ear or the seed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piece of wood is held and the other then swung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19:51Z</dcterms:created>
  <dc:creator>Krystina Adams</dc:creator>
  <dc:description/>
  <dc:language>en-US</dc:language>
  <cp:lastModifiedBy>Krystina Adams</cp:lastModifiedBy>
  <dcterms:modified xsi:type="dcterms:W3CDTF">2009-11-28T17:06:21Z</dcterms:modified>
  <cp:revision>4</cp:revision>
  <dc:subject/>
  <dc:title>Slide 1</dc:title>
</cp:coreProperties>
</file>