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4661-3810-4979-8F86-5C0CC6D8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050-1BF7-48DC-83EC-DCE86C45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C756-6B82-42C3-8F05-67E831CB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AF0-85A6-431F-A836-25F7087F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A47B-7810-4150-BD51-D51C6910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2B3D-5C37-4B4D-8307-5FDFE9C4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BB40-58BD-4254-A915-CA31B230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C4DC-7366-4434-A277-1E5F49C2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A774-E900-4DF8-8DA2-AEE8BE07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433E-50EF-48C7-AE8D-416CEC56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7882-3073-4C79-BFCA-4AAF2D01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390-38E9-4FA1-B923-F3933848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E4FE-3E4A-4ED3-9469-0C63097E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829A-8214-4D20-89A8-3653A05B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B7E5-E0DA-4200-BD7C-6C7758E0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5A6A-E94E-4994-BFA5-12C94C5F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201A-9AF9-4648-841A-6C3CC9A1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F47-B1B3-45B6-9903-28A792F6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9549-4883-4BD6-B459-083F9FC8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EE2C-BEF9-4E49-A0FF-EB28665C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4282-1CE1-4446-888F-7A4A6627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8952-1E7E-40F0-8BB9-6871A317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BF28-869D-43FA-86A1-7E196CB8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B09-D357-4B92-B907-A4AD4A0D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A60B-29E6-4373-83C9-098D4CC9B66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82C7-E6D7-47B7-B95E-6855AAF234D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rtifacts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3924360"/>
            <a:ext cx="4038480" cy="21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9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Definit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A man made object used by ma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Man m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Us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potte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coi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Non-examp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Anything created by nature and not by ma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76320" y="5257800"/>
            <a:ext cx="650880" cy="1447920"/>
            <a:chOff x="76320" y="5257800"/>
            <a:chExt cx="650880" cy="144792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76320" y="5257800"/>
              <a:ext cx="65088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 txBox="1"/>
            <p:nvPr/>
          </p:nvSpPr>
          <p:spPr>
            <a:xfrm>
              <a:off x="76320" y="5257800"/>
              <a:ext cx="65088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99"/>
                </a:solidFill>
                <a:latin typeface="Tahoma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0" y="5638680"/>
            <a:ext cx="793800" cy="1219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848720" y="4952880"/>
            <a:ext cx="1295280" cy="100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343400" y="5029200"/>
            <a:ext cx="1219320" cy="701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905120" y="5638680"/>
            <a:ext cx="1371600" cy="1185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638680" y="4952880"/>
            <a:ext cx="1067040" cy="1041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3276720" y="5105520"/>
            <a:ext cx="68580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5562720" y="6019920"/>
            <a:ext cx="1295280" cy="873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2286000" y="4267080"/>
            <a:ext cx="1017720" cy="1371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6705720" y="46483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7696080" y="5943600"/>
            <a:ext cx="1524240" cy="101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962520" y="5791320"/>
            <a:ext cx="1523880" cy="1141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65240" y="260280"/>
            <a:ext cx="534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04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rtifact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ot Artifa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" y="228600"/>
          <a:ext cx="8838720" cy="4266720"/>
        </p:xfrm>
        <a:graphic>
          <a:graphicData uri="http://schemas.openxmlformats.org/drawingml/2006/table">
            <a:tbl>
              <a:tblPr/>
              <a:tblGrid>
                <a:gridCol w="4317840"/>
                <a:gridCol w="4520880"/>
              </a:tblGrid>
              <a:tr h="42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3"/>
          <a:stretch/>
        </p:blipFill>
        <p:spPr>
          <a:xfrm>
            <a:off x="762120" y="4876920"/>
            <a:ext cx="1139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8:01:38Z</dcterms:created>
  <dc:creator>Krystina Adams</dc:creator>
  <dc:description/>
  <dc:language>en-US</dc:language>
  <cp:lastModifiedBy>Krystina Adams</cp:lastModifiedBy>
  <dcterms:modified xsi:type="dcterms:W3CDTF">2009-11-28T17:05:43Z</dcterms:modified>
  <cp:revision>4</cp:revision>
  <dc:subject/>
  <dc:title>Slide 1</dc:title>
</cp:coreProperties>
</file>