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B7B8-36EE-4C2D-889F-38F228A2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766D-A51F-4BF9-9DAB-C5B36620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7274-CFCF-4E1F-BFD9-7557F4A51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12F0-0839-4139-8264-67AD3EFA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2B50-438A-4901-8476-9687D69F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014D-387B-4105-AA38-CEAF11BD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A873-F079-4549-8FF1-AAE7CD43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CB65-764E-4A27-BA81-05FCC70A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73A7-C8CF-4757-A5D9-100FFFE7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852E-0B3B-4D37-B93C-155B19DB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8658-5190-4B2B-B4E8-22CE1E81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F9C2-F99B-4A1D-A134-25EF84FC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E295-DC0B-410C-881F-D1ECBBA0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2B32-5156-4B90-A63A-70D008E0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E9A8-A7C7-4BA8-ACBC-F490DB76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EAB4-AD83-4F1B-9695-F23071F7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61FE-8387-419C-A2C5-AC6ED6D83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C0CE-029B-467C-B7E6-026AB71C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F6A1-D72E-4D51-85E5-34A0F745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8F57-F6BA-4778-983E-0CD3F2CC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F591-B05C-4C32-8230-CB0B4FB0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1473-A082-4F79-B6C8-D3437423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6E27-CA22-47A5-98F4-49A49E52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ECE4-E11B-4DB0-A12C-93B38BA0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d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6561-808F-4C17-AAED-EFB25EBDF2C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2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6196-5AB6-4B6F-8F32-114BAE38012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rtifacts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3924360"/>
            <a:ext cx="4038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48320" y="3924360"/>
            <a:ext cx="4038480" cy="217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29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Definiti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A man made object used by man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Man 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Us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3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Examp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potte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too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coi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Non-examp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Anything created by nature and not by man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76320" y="5257800"/>
            <a:ext cx="650880" cy="1447920"/>
            <a:chOff x="76320" y="5257800"/>
            <a:chExt cx="650880" cy="144792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76320" y="5257800"/>
              <a:ext cx="65088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 txBox="1"/>
            <p:nvPr/>
          </p:nvSpPr>
          <p:spPr>
            <a:xfrm>
              <a:off x="76320" y="5257800"/>
              <a:ext cx="65088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99"/>
                </a:solidFill>
                <a:latin typeface="Tahoma"/>
              </a:endParaRPr>
            </a:p>
          </p:txBody>
        </p:sp>
      </p:grp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58000" y="5638680"/>
            <a:ext cx="793800" cy="1219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848720" y="4952880"/>
            <a:ext cx="1295280" cy="100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343400" y="5029200"/>
            <a:ext cx="1219320" cy="701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905120" y="5638680"/>
            <a:ext cx="1371600" cy="1185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638680" y="4952880"/>
            <a:ext cx="1067040" cy="1041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3276720" y="5105520"/>
            <a:ext cx="685800" cy="1828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5562720" y="6019920"/>
            <a:ext cx="1295280" cy="873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2286000" y="4267080"/>
            <a:ext cx="1017720" cy="1371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6705720" y="46483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7696080" y="5943600"/>
            <a:ext cx="1524240" cy="1012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3962520" y="5791320"/>
            <a:ext cx="1523880" cy="1141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965240" y="260280"/>
            <a:ext cx="534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304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rtifact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Not Artifa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28600" y="228600"/>
          <a:ext cx="8838720" cy="4266720"/>
        </p:xfrm>
        <a:graphic>
          <a:graphicData uri="http://schemas.openxmlformats.org/drawingml/2006/table">
            <a:tbl>
              <a:tblPr/>
              <a:tblGrid>
                <a:gridCol w="4317840"/>
                <a:gridCol w="4520880"/>
              </a:tblGrid>
              <a:tr h="42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" descr=""/>
          <p:cNvPicPr/>
          <p:nvPr/>
        </p:nvPicPr>
        <p:blipFill>
          <a:blip r:embed="rId13"/>
          <a:stretch/>
        </p:blipFill>
        <p:spPr>
          <a:xfrm>
            <a:off x="762120" y="4876920"/>
            <a:ext cx="1139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8:01:38Z</dcterms:created>
  <dc:creator>Krystina Adams</dc:creator>
  <dc:description/>
  <dc:language>en-US</dc:language>
  <cp:lastModifiedBy>Krystina Adams</cp:lastModifiedBy>
  <dcterms:modified xsi:type="dcterms:W3CDTF">2009-11-28T17:05:43Z</dcterms:modified>
  <cp:revision>4</cp:revision>
  <dc:subject/>
  <dc:title>Slide 1</dc:title>
</cp:coreProperties>
</file>