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D4AF-819B-455A-BF0C-B50F5E0D6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FD86-218C-4092-8FE9-3285B1CE4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7959-1BBC-48CF-A8CE-BD5FBFF6E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F10E-5B1D-4278-A32E-746757AD2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F075B-1A1F-47E5-8E47-FA322BF3F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89204-81A3-4FA0-8D32-A4AAD483A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3F7FD-AB14-4D85-AADC-F2ABFD682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E3751-B80D-4639-A02A-E8EBBF3AF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2915B-BC15-4186-9A35-03F5B831F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68DBD-D015-45C4-9858-AA1153588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06823-A75F-4EBE-82F5-A454FB7AF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2C5D-81B2-4CDE-9DA2-65B3A0468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FB7F0-859C-429B-A904-3C725BBFE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BE870-A8C4-412B-8257-D498C809D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66C1A-44C2-45C1-BAB1-3C6925C57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F2B22-530D-44AB-9C4E-428D4D73F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1D788-E93C-42E0-9364-5C58A60FF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2970-10D5-48C5-B91E-111FE1631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AAE7-682D-497C-A85A-4AA3717EA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73D1-AF13-46EB-8FA9-A81F8E778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5909-DAE3-496F-BEBF-4BEF21949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3172-2684-4E0E-A119-F89EC3C4C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CAA8-154B-469D-AB87-6A92A9049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F582-F25C-432E-8FD5-3CEAE0AD6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7572"/>
                </a:gs>
                <a:gs pos="100000">
                  <a:srgbClr val="006d6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007572"/>
                </a:gs>
                <a:gs pos="100000">
                  <a:srgbClr val="00888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5C416-8082-44FB-BFDA-5E8ECEDD2B5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007572"/>
                </a:gs>
                <a:gs pos="100000">
                  <a:srgbClr val="0062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007572"/>
                </a:gs>
                <a:gs pos="100000">
                  <a:srgbClr val="00888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35B38-DB68-4BB4-A70F-4C2BCB09F49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99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rtifacts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599840"/>
            <a:ext cx="4038480" cy="21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3924360"/>
            <a:ext cx="4038480" cy="21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648320" y="3924360"/>
            <a:ext cx="4038480" cy="2171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457200" y="1600200"/>
          <a:ext cx="8229600" cy="44956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229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ffffff"/>
                          </a:solidFill>
                          <a:uFillTx/>
                          <a:latin typeface="Tahoma"/>
                        </a:rPr>
                        <a:t>Definitio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A man made object used by man.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Tahoma"/>
                        </a:rPr>
                        <a:t>Characteristic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Man ma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Usefu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Ol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3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Tahoma"/>
                        </a:rPr>
                        <a:t>Exampl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potter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tool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coin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Tahoma"/>
                        </a:rPr>
                        <a:t>Non-exampl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Anything created by nature and not by man.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76320" y="5257800"/>
            <a:ext cx="650880" cy="1447920"/>
            <a:chOff x="76320" y="5257800"/>
            <a:chExt cx="650880" cy="1447920"/>
          </a:xfrm>
        </p:grpSpPr>
        <p:pic>
          <p:nvPicPr>
            <p:cNvPr id="94" name="" descr=""/>
            <p:cNvPicPr/>
            <p:nvPr/>
          </p:nvPicPr>
          <p:blipFill>
            <a:blip r:embed="rId1"/>
            <a:stretch/>
          </p:blipFill>
          <p:spPr>
            <a:xfrm>
              <a:off x="76320" y="5257800"/>
              <a:ext cx="650880" cy="14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 txBox="1"/>
            <p:nvPr/>
          </p:nvSpPr>
          <p:spPr>
            <a:xfrm>
              <a:off x="76320" y="5257800"/>
              <a:ext cx="650880" cy="1447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b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99"/>
                </a:solidFill>
                <a:latin typeface="Tahoma"/>
              </a:endParaRPr>
            </a:p>
          </p:txBody>
        </p:sp>
      </p:grp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6858000" y="5638680"/>
            <a:ext cx="793800" cy="12193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7848720" y="4952880"/>
            <a:ext cx="1295280" cy="10051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4343400" y="5029200"/>
            <a:ext cx="1219320" cy="7016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1905120" y="5638680"/>
            <a:ext cx="1371600" cy="11858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6"/>
          <a:stretch/>
        </p:blipFill>
        <p:spPr>
          <a:xfrm>
            <a:off x="5638680" y="4952880"/>
            <a:ext cx="1067040" cy="10414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7"/>
          <a:stretch/>
        </p:blipFill>
        <p:spPr>
          <a:xfrm>
            <a:off x="3276720" y="5105520"/>
            <a:ext cx="685800" cy="18288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8"/>
          <a:stretch/>
        </p:blipFill>
        <p:spPr>
          <a:xfrm>
            <a:off x="5562720" y="6019920"/>
            <a:ext cx="1295280" cy="873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9"/>
          <a:stretch/>
        </p:blipFill>
        <p:spPr>
          <a:xfrm>
            <a:off x="2286000" y="4267080"/>
            <a:ext cx="1017720" cy="13716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10"/>
          <a:stretch/>
        </p:blipFill>
        <p:spPr>
          <a:xfrm>
            <a:off x="6705720" y="4648320"/>
            <a:ext cx="1143000" cy="9460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11"/>
          <a:stretch/>
        </p:blipFill>
        <p:spPr>
          <a:xfrm>
            <a:off x="7696080" y="5943600"/>
            <a:ext cx="1524240" cy="10126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12"/>
          <a:stretch/>
        </p:blipFill>
        <p:spPr>
          <a:xfrm>
            <a:off x="3962520" y="5791320"/>
            <a:ext cx="1523880" cy="11412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965240" y="260280"/>
            <a:ext cx="5349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30492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Artifacts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Not Artifac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228600" y="228600"/>
          <a:ext cx="8838720" cy="4266720"/>
        </p:xfrm>
        <a:graphic>
          <a:graphicData uri="http://schemas.openxmlformats.org/drawingml/2006/table">
            <a:tbl>
              <a:tblPr/>
              <a:tblGrid>
                <a:gridCol w="4317840"/>
                <a:gridCol w="4520880"/>
              </a:tblGrid>
              <a:tr h="426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0" name="" descr=""/>
          <p:cNvPicPr/>
          <p:nvPr/>
        </p:nvPicPr>
        <p:blipFill>
          <a:blip r:embed="rId13"/>
          <a:stretch/>
        </p:blipFill>
        <p:spPr>
          <a:xfrm>
            <a:off x="762120" y="4876920"/>
            <a:ext cx="113976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2T18:01:38Z</dcterms:created>
  <dc:creator>Krystina Adams</dc:creator>
  <dc:description/>
  <dc:language>en-US</dc:language>
  <cp:lastModifiedBy>Krystina Adams</cp:lastModifiedBy>
  <dcterms:modified xsi:type="dcterms:W3CDTF">2009-11-28T17:05:43Z</dcterms:modified>
  <cp:revision>4</cp:revision>
  <dc:subject/>
  <dc:title>Slide 1</dc:title>
</cp:coreProperties>
</file>