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08C-CA9F-49AC-8F2C-7330657B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90B-A0FF-4FFF-9675-DCEF168D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1E4-B66B-4D50-9005-885DA451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680-B1B7-404C-9672-B3FEBC40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AE8F-7EBF-42BE-B7E0-155CBB9F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1B73-972F-44B8-8BF1-65D19E7A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694A-9C00-4314-B0A6-AD693059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60FF-F695-44E2-9CA5-61824281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05D8-F0F9-483B-B27E-0ECE53F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4F5F-8459-4351-8D18-5D6EA333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007A-E7DF-42C0-813E-A943075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FFA-B822-409E-90C9-0665B44E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20F9-CD6F-4638-9112-CDAD255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183B-3299-403A-8BA7-453F6072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49A6-CEDF-459B-B265-5FCCC356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CA9-4DBD-425A-A838-FECEFEFB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8828-7EF5-4A0E-8796-2B743F0B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94B-7E50-42E7-84A2-C70048CD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04F-D3F0-410A-92F7-03AA054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568-E267-44FC-9049-AD170676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E08-0E74-43DB-9CD9-3E603B11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B52-7056-4E30-AFA6-5F33E5B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FC7-6001-49D4-BD4C-AF3F81F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A0B-C8DA-47C2-9C2B-50A54E90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A2A6-74F2-41AD-B654-A35F2198AA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E0D9-A609-4FEB-8181-3D0D399034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tifact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Defini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A man made object used by ma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Man 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Us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pott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co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Anything created by nature and not by ma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76320" y="5257800"/>
            <a:ext cx="650880" cy="1447920"/>
            <a:chOff x="76320" y="5257800"/>
            <a:chExt cx="650880" cy="1447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6320" y="5257800"/>
              <a:ext cx="650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76320" y="5257800"/>
              <a:ext cx="65088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79380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848720" y="4952880"/>
            <a:ext cx="1295280" cy="10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343400" y="5029200"/>
            <a:ext cx="1219320" cy="70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05120" y="5638680"/>
            <a:ext cx="1371600" cy="118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638680" y="4952880"/>
            <a:ext cx="1067040" cy="1041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3276720" y="5105520"/>
            <a:ext cx="685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5562720" y="6019920"/>
            <a:ext cx="1295280" cy="87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2286000" y="426708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705720" y="46483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7696080" y="5943600"/>
            <a:ext cx="1524240" cy="101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962520" y="5791320"/>
            <a:ext cx="1523880" cy="1141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65240" y="260280"/>
            <a:ext cx="53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tifac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t Artif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228600"/>
          <a:ext cx="8838720" cy="4266720"/>
        </p:xfrm>
        <a:graphic>
          <a:graphicData uri="http://schemas.openxmlformats.org/drawingml/2006/table">
            <a:tbl>
              <a:tblPr/>
              <a:tblGrid>
                <a:gridCol w="4317840"/>
                <a:gridCol w="4520880"/>
              </a:tblGrid>
              <a:tr h="42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762120" y="4876920"/>
            <a:ext cx="113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8:01:38Z</dcterms:created>
  <dc:creator>Krystina Adams</dc:creator>
  <dc:description/>
  <dc:language>en-US</dc:language>
  <cp:lastModifiedBy>Krystina Adams</cp:lastModifiedBy>
  <dcterms:modified xsi:type="dcterms:W3CDTF">2009-11-28T17:05:43Z</dcterms:modified>
  <cp:revision>4</cp:revision>
  <dc:subject/>
  <dc:title>Slide 1</dc:title>
</cp:coreProperties>
</file>