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AB9-45FF-4082-AE58-D3AE3A46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49F-6C7E-4DD4-A40E-BBE808E3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82A-7ADF-4EC5-81F6-B050478C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773-0A8C-4666-9A38-7E76715C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14D-0647-4998-B48F-A16CBA7E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5E1-E3FE-4555-B327-997868D2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1E8-7A43-4028-8FD7-5BC859D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E6D-B74A-4F5C-AD6F-807DE335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64E-59B4-4F7D-BAF6-C891F77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344-6CA5-477C-8517-B36458E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8FB-78F1-4787-87FC-B117D6F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5B6-151B-483C-810E-E05E61E6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CACD-3EF3-4802-BCC8-F52B48E74D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The Game of</a:t>
            </a: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MATTER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forth state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Plasma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The substance made of 2 or more elements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olecul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space that matter takes u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ass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Arial Rounded MT Bold"/>
              </a:rPr>
              <a:t>The physical change of matter is when a substance that makes up matter changes into another substa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ue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Fal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matter in an objec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ass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66"/>
                </a:solidFill>
                <a:latin typeface="Arial Rounded MT Bold"/>
              </a:rPr>
              <a:t>WAY TO GO!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Rounded MT Bold"/>
              </a:rPr>
              <a:t>You have now mastered the game of matte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smallest unit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Atom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    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Subs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are two or more atoms linked togeth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Compound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matter of the same characteristics or properties call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Substanc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3:52:54Z</dcterms:created>
  <dc:creator>Krystina Adams</dc:creator>
  <dc:description/>
  <dc:language>en-US</dc:language>
  <cp:lastModifiedBy>Krystina Adams</cp:lastModifiedBy>
  <dcterms:modified xsi:type="dcterms:W3CDTF">2009-04-01T00:49:54Z</dcterms:modified>
  <cp:revision>4</cp:revision>
  <dc:subject/>
  <dc:title>MATTER</dc:title>
</cp:coreProperties>
</file>