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86CF-9F6D-443C-ACEA-EEBEE2169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30FA-DA21-45A1-9E6B-7CA893F2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FAEF-205A-4EF4-B6EB-5D05200D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DBC8-71F8-4407-8805-C532CFBDF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7322-E64D-4773-BCE8-556B7BE9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FC8F-1F99-41B9-9FCA-A3A2470E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D88E-C29F-49D2-813B-CDE2356B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AEF5-9189-4989-9907-39D8EF36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AA47-50DA-430B-8076-9D1518AD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3EAD-9ADE-4381-8A4C-87695642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3F99-3CF5-4570-A7F1-04FA39A6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59F3-0B7D-4159-A7D1-31A86055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EB78-2CAB-4188-8E2A-E9139667D4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en-US" sz="9600" spc="-1" strike="noStrike">
                <a:solidFill>
                  <a:srgbClr val="e3ebf1"/>
                </a:solidFill>
                <a:latin typeface="Arial Rounded MT Bold"/>
              </a:rPr>
              <a:t>The Game of</a:t>
            </a:r>
            <a:br>
              <a:rPr sz="9600"/>
            </a:br>
            <a:r>
              <a:rPr b="0" lang="en-US" sz="9600" spc="-1" strike="noStrike">
                <a:solidFill>
                  <a:srgbClr val="e3ebf1"/>
                </a:solidFill>
                <a:latin typeface="Arial Rounded MT Bold"/>
              </a:rPr>
              <a:t>MATTER</a:t>
            </a:r>
            <a:endParaRPr b="0" lang="en-US" sz="9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66ff33"/>
                </a:solidFill>
                <a:latin typeface="Arial Rounded MT Bold"/>
              </a:rPr>
              <a:t>CORRECT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What is the forth state of matte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Plasma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2" action="ppaction://hlinksldjump"/>
              </a:rPr>
              <a:t>At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CORRECT!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The substance made of 2 or more elements is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Molecule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2" action="ppaction://hlinksldjump"/>
              </a:rPr>
              <a:t>Comp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CORRECT!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What is the amount of space that matter takes up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Mass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2" action="ppaction://hlinksldjump"/>
              </a:rPr>
              <a:t>Volu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CORRECT!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CORRECT!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0066"/>
                </a:solidFill>
                <a:latin typeface="Arial Rounded MT Bold"/>
              </a:rPr>
              <a:t>The physical change of matter is when a substance that makes up matter changes into another substanc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True</a:t>
            </a:r>
            <a:r>
              <a:rPr b="0" lang="en-US" sz="40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0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000" spc="-1" strike="noStrike" u="sng">
                <a:solidFill>
                  <a:srgbClr val="66ccff"/>
                </a:solidFill>
                <a:uFillTx/>
                <a:latin typeface="Arial Rounded MT Bold"/>
                <a:hlinkClick r:id="rId2" action="ppaction://hlinksldjump"/>
              </a:rPr>
              <a:t>Fal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CORRECT!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What is the amount of matter in an objec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Mass</a:t>
            </a: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	</a:t>
            </a: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	</a:t>
            </a: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Volu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00"/>
                </a:solidFill>
                <a:latin typeface="Arial Rounded MT Bold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66ff33"/>
                </a:solidFill>
                <a:latin typeface="Arial Rounded MT Bold"/>
              </a:rPr>
              <a:t>CORRECT!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66"/>
                </a:solidFill>
                <a:latin typeface="Arial Rounded MT Bold"/>
              </a:rPr>
              <a:t>WAY TO GO! 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 Rounded MT Bold"/>
              </a:rPr>
              <a:t>You have now mastered the game of matter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3818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What is the smallest unit of matte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Atom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     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2" action="ppaction://hlinksldjump"/>
              </a:rPr>
              <a:t>Subst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What are two or more atoms linked togethe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Compound</a:t>
            </a: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	</a:t>
            </a: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	</a:t>
            </a: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Molec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00"/>
                </a:solidFill>
                <a:latin typeface="Arial Rounded MT Bold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66ff33"/>
                </a:solidFill>
                <a:latin typeface="Arial Rounded MT Bold"/>
              </a:rPr>
              <a:t>CORRECT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What is the matter of the same characteristics or properties call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Substance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2" action="ppaction://hlinksldjump"/>
              </a:rPr>
              <a:t>Comp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23:52:54Z</dcterms:created>
  <dc:creator>Krystina Adams</dc:creator>
  <dc:description/>
  <dc:language>en-US</dc:language>
  <cp:lastModifiedBy>Krystina Adams</cp:lastModifiedBy>
  <dcterms:modified xsi:type="dcterms:W3CDTF">2009-04-01T00:49:54Z</dcterms:modified>
  <cp:revision>4</cp:revision>
  <dc:subject/>
  <dc:title>MATTER</dc:title>
</cp:coreProperties>
</file>