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C44F-6947-4EAD-BC11-286273CFD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841C-6DAA-4DE3-B293-F3A5DFDD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8229-804C-483C-99D9-7A5A29502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55F8-8EF5-4E0C-87B4-30BB00802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9564-983C-4C6D-BBA1-CA76896D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B931-E6EF-413A-9FC7-7951D19F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8412-1290-4691-9C61-D0508074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5B3A-10BE-429A-9E6B-93430942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2630-0752-40FC-BDBF-DD0A6832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9E8E-A73D-42D7-AE34-D7A94A25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1ABC-119D-470D-80E2-E114FF0B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A5F2-0506-4DE9-8C59-0325E27B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1ACC-C14D-4C30-96F8-7F1D42672E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slide15.xml"/><Relationship Id="rId10" Type="http://schemas.openxmlformats.org/officeDocument/2006/relationships/slide" Target=""/><Relationship Id="rId11" Type="http://schemas.openxmlformats.org/officeDocument/2006/relationships/slide" Target="slide16.xml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slide11.xml"/><Relationship Id="rId17" Type="http://schemas.openxmlformats.org/officeDocument/2006/relationships/slide" Target=""/><Relationship Id="rId18" Type="http://schemas.openxmlformats.org/officeDocument/2006/relationships/slide" Target="slide12.xml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slide7.xml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slide19.xml"/><Relationship Id="rId27" Type="http://schemas.openxmlformats.org/officeDocument/2006/relationships/slide" Target=""/><Relationship Id="rId28" Type="http://schemas.openxmlformats.org/officeDocument/2006/relationships/slide" Target="slide20.xml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slide3.xml"/><Relationship Id="rId3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is the longest bone in your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od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femu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large bone surround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our brai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skul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lumbar vertebra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48000" y="1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82720" y="2514600"/>
            <a:ext cx="554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found in the lower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rtion of your spi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bone is located on th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utside of your lower ar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adi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bone is located in the back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f your lower leg, near you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alf musc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fibul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bone is known to b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our “collar” bon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lavic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bone connects your legs 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our spine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lv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bone connects you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rm bone to your clavicle bon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capul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bone is located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low the kne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d is commonly know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s the “shin” bon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ib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the top por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f your spine and i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cated behind your skull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ervicle vertebra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>
            <a:hlinkClick r:id="rId8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9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11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>
            <a:hlinkClick r:id="rId12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>
            <a:hlinkClick r:id="rId13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0"/>
            <a:ext cx="1600200" cy="94716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ad/ Ne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0"/>
            <a:ext cx="175284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r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0"/>
            <a:ext cx="221004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0"/>
            <a:ext cx="22860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>
            <a:hlinkClick r:id="rId14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>
            <a:hlinkClick r:id="rId15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>
            <a:hlinkClick r:id="rId17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18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>
            <a:hlinkClick r:id="rId19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>
            <a:hlinkClick r:id="rId20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>
            <a:hlinkClick r:id="rId21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>
            <a:hlinkClick r:id="rId22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23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>
            <a:hlinkClick r:id="rId24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>
            <a:hlinkClick r:id="rId25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26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>
            <a:hlinkClick r:id="rId27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28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>
            <a:hlinkClick r:id="rId29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>
            <a:hlinkClick r:id="rId30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bone is where the rib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nect in the fro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f your ches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rnu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se bones are fou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your wris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arpal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se are the five lo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ones found in you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o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tatarsal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s is your jaw b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mandib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914400"/>
            <a:ext cx="7543800" cy="4038480"/>
          </a:xfrm>
          <a:prstGeom prst="wedgeRectCallout">
            <a:avLst>
              <a:gd name="adj1" fmla="val -17634"/>
              <a:gd name="adj2" fmla="val 1116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se bones create a cag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at protects your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eart and lung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ib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is the largest bone of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our upper ar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humer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bone protects your kne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oin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tell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0833"/>
              <a:gd name="adj2" fmla="val 1701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a horseshoe shaped bo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cated in your nec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hyoi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81560" y="22096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the middle portion of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our spin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oracic vertebra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uln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79600" y="2286000"/>
            <a:ext cx="577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bone is located on th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side of your lower ar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Krystina Adams</cp:lastModifiedBy>
  <cp:lastPrinted>2001-01-31T16:21:13Z</cp:lastPrinted>
  <dcterms:modified xsi:type="dcterms:W3CDTF">2009-03-31T22:12:18Z</dcterms:modified>
  <cp:revision>100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